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56CE-B4E3-4299-98B2-D35E02045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04D9-503C-4555-9C22-F80D21B75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C0C8-E537-4160-BE52-D8E2B3CB3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6EF2-2BD2-4B04-974A-DF4D3EBC2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7A66-98AC-486C-903B-9AFDFD5A5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A7C6-CB6A-42F5-95F6-B29FF7AFC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54AA-9EE3-4BFC-A757-BF21D0DCD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155B-FA78-4215-983E-7A98D4296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D208-8D45-4EBD-AF49-8C9010DE8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7C9F-2E68-40D8-9BB6-2D0593BD0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B9A6-8216-478B-A61D-B7D1FDEFB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C42E-C4BB-4C1A-9D5A-C0EFBD6C0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E4583A-098B-4EFA-AD09-01B4654F2E6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– now: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1-07T07:44:05Z</dcterms:modified>
  <cp:revision>87</cp:revision>
  <dc:subject/>
  <dc:title>No Slide Title</dc:title>
</cp:coreProperties>
</file>